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5F8C-2C2B-4233-974B-0753B40700C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D057-4B25-4E93-A71D-9FC172B0D8F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9070-34AC-4CD0-BEA2-CE213353025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BA34-0CB8-4CF7-B850-9A3BCADAFD4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8F02-1865-401D-9DD7-D1CCE064F87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263E-AD85-4406-9102-BA80CCDA63C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1CE7-83BE-4FA2-99E8-FBD2A197B22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B48E-ECDE-4AE1-86DF-A0CEB047E2D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652E-A618-4C3A-916A-5F69A82F3B4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Text Box 4"/>
          <p:cNvSpPr/>
          <p:nvPr/>
        </p:nvSpPr>
        <p:spPr>
          <a:xfrm>
            <a:off x="1203480" y="46594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196B-B2CD-4E2F-AF62-5D3B1518AE0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86F6-9108-443F-B815-E8DCD5D077F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36BE-E583-42E6-A0A4-D375CBAB614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8270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57840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18728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5784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82700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57840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1371600" y="8568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KS 8C: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alculate percent composition and empirical and molecular formula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e7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30e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70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4680" indent="-4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PE_Anc_CopyrightLine_GS"/>
          <p:cNvPicPr/>
          <p:nvPr/>
        </p:nvPicPr>
        <p:blipFill>
          <a:blip r:embed="rId2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d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9" descr="PE_Anc_CopyrightLine_GS"/>
          <p:cNvPicPr/>
          <p:nvPr/>
        </p:nvPicPr>
        <p:blipFill>
          <a:blip r:embed="rId3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5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" name="Picture 9" descr="top_arch2"/>
          <p:cNvPicPr/>
          <p:nvPr/>
        </p:nvPicPr>
        <p:blipFill>
          <a:blip r:embed="rId4"/>
          <a:stretch/>
        </p:blipFill>
        <p:spPr>
          <a:xfrm>
            <a:off x="0" y="0"/>
            <a:ext cx="9144000" cy="107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ivil Rights 1871–1914</a:t>
            </a:r>
            <a:endParaRPr b="1" lang="en-US" sz="2800" spc="-1" strike="noStrike">
              <a:solidFill>
                <a:srgbClr val="130e7d"/>
              </a:solidFill>
              <a:latin typeface="Arial"/>
            </a:endParaRPr>
          </a:p>
        </p:txBody>
      </p:sp>
      <p:pic>
        <p:nvPicPr>
          <p:cNvPr id="52" name="Picture 6" descr="2669196"/>
          <p:cNvPicPr/>
          <p:nvPr/>
        </p:nvPicPr>
        <p:blipFill>
          <a:blip r:embed="rId1"/>
          <a:stretch/>
        </p:blipFill>
        <p:spPr>
          <a:xfrm>
            <a:off x="2590920" y="2666880"/>
            <a:ext cx="396216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1"/>
          <p:cNvSpPr/>
          <p:nvPr/>
        </p:nvSpPr>
        <p:spPr>
          <a:xfrm>
            <a:off x="685800" y="1600200"/>
            <a:ext cx="7772400" cy="4038480"/>
          </a:xfrm>
          <a:prstGeom prst="rect">
            <a:avLst/>
          </a:prstGeom>
          <a:gradFill rotWithShape="0">
            <a:gsLst>
              <a:gs pos="0">
                <a:srgbClr val="e8eae9"/>
              </a:gs>
              <a:gs pos="100000">
                <a:srgbClr val="c9c9ff"/>
              </a:gs>
            </a:gsLst>
            <a:lin ang="5400000"/>
          </a:gradFill>
          <a:ln w="19080">
            <a:solidFill>
              <a:srgbClr val="666699"/>
            </a:solidFill>
            <a:miter/>
          </a:ln>
          <a:effectLst>
            <a:outerShdw dist="40186" dir="430364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914400" y="2971800"/>
            <a:ext cx="7467480" cy="24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 </a:t>
            </a:r>
            <a:r>
              <a:rPr b="0" i="1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Plessy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v.</a:t>
            </a:r>
            <a:r>
              <a:rPr b="0" i="1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 Ferguson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 (1896) decision furthered discrimination</a:t>
            </a:r>
            <a:r>
              <a:rPr b="0" lang="en-US" sz="2000" spc="-1" strike="noStrike">
                <a:solidFill>
                  <a:srgbClr val="0066cc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in the North as well as in the Sout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By 1910,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segregation was the norm</a:t>
            </a:r>
            <a:r>
              <a:rPr b="0" lang="en-US" sz="2000" spc="-1" strike="noStrike">
                <a:solidFill>
                  <a:srgbClr val="0066cc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nationwid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fter 1914, even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federal offices were segregated</a:t>
            </a:r>
            <a:r>
              <a:rPr b="0" lang="en-US" sz="2000" spc="-1" strike="noStrike">
                <a:solidFill>
                  <a:srgbClr val="0066cc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because of policies approved by President Woodrow Wilson, a Progress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143000" y="167652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Racial theories were also used to justify laws that kept blacks from voting. Many Progressives supported racial prejudic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Straight Connector 7"/>
          <p:cNvSpPr/>
          <p:nvPr/>
        </p:nvSpPr>
        <p:spPr>
          <a:xfrm>
            <a:off x="990720" y="2895480"/>
            <a:ext cx="7162560" cy="1800"/>
          </a:xfrm>
          <a:prstGeom prst="line">
            <a:avLst/>
          </a:prstGeom>
          <a:ln w="19080">
            <a:solidFill>
              <a:srgbClr val="eb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3" descr="hsus_ch_017_s.3_booker_debois_dd.jpg"/>
          <p:cNvPicPr/>
          <p:nvPr/>
        </p:nvPicPr>
        <p:blipFill>
          <a:blip r:embed="rId1"/>
          <a:srcRect l="53151" t="0" r="0" b="0"/>
          <a:stretch/>
        </p:blipFill>
        <p:spPr>
          <a:xfrm>
            <a:off x="4343400" y="4175280"/>
            <a:ext cx="1276200" cy="222552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4"/>
          <p:cNvSpPr/>
          <p:nvPr/>
        </p:nvSpPr>
        <p:spPr>
          <a:xfrm flipH="1" rot="5400000">
            <a:off x="1180800" y="1866960"/>
            <a:ext cx="3200400" cy="3581280"/>
          </a:xfrm>
          <a:prstGeom prst="upArrowCallout">
            <a:avLst>
              <a:gd name="adj1" fmla="val 13418"/>
              <a:gd name="adj2" fmla="val 17500"/>
              <a:gd name="adj3" fmla="val 16956"/>
              <a:gd name="adj4" fmla="val 39628"/>
            </a:avLst>
          </a:prstGeom>
          <a:gradFill rotWithShape="0">
            <a:gsLst>
              <a:gs pos="0">
                <a:srgbClr val="00b0f0">
                  <a:alpha val="50196"/>
                </a:srgbClr>
              </a:gs>
              <a:gs pos="100000">
                <a:srgbClr val="e8eae9"/>
              </a:gs>
            </a:gsLst>
            <a:lin ang="189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1514520" y="1143000"/>
            <a:ext cx="6143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frican Americans were split over how to end racial discrimination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200240" y="2243160"/>
            <a:ext cx="2514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Arial"/>
              </a:rPr>
              <a:t>Booker T. Washingt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urged a patient,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gradual effor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based on earning equality through training and work in the skilled trad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AutoShape 4"/>
          <p:cNvSpPr/>
          <p:nvPr/>
        </p:nvSpPr>
        <p:spPr>
          <a:xfrm flipH="1" rot="16200000">
            <a:off x="4742280" y="1942920"/>
            <a:ext cx="3200400" cy="3429000"/>
          </a:xfrm>
          <a:prstGeom prst="upArrowCallout">
            <a:avLst>
              <a:gd name="adj1" fmla="val 13418"/>
              <a:gd name="adj2" fmla="val 17500"/>
              <a:gd name="adj3" fmla="val 16954"/>
              <a:gd name="adj4" fmla="val 40276"/>
            </a:avLst>
          </a:prstGeom>
          <a:gradFill rotWithShape="0">
            <a:gsLst>
              <a:gs pos="0">
                <a:srgbClr val="ffc000">
                  <a:alpha val="50196"/>
                </a:srgbClr>
              </a:gs>
              <a:gs pos="100000">
                <a:srgbClr val="e8eae9"/>
              </a:gs>
            </a:gsLst>
            <a:lin ang="81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521320" y="2422440"/>
            <a:ext cx="2571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Arial"/>
              </a:rPr>
              <a:t>W.E.B. Du Boi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demanded that African Americans receive all constitutional rights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immediatel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10"/>
          <p:cNvSpPr/>
          <p:nvPr/>
        </p:nvSpPr>
        <p:spPr>
          <a:xfrm flipH="1" rot="10800000">
            <a:off x="836640" y="1447920"/>
            <a:ext cx="7391520" cy="2286000"/>
          </a:xfrm>
          <a:prstGeom prst="upArrowCallout">
            <a:avLst>
              <a:gd name="adj1" fmla="val 42846"/>
              <a:gd name="adj2" fmla="val 42992"/>
              <a:gd name="adj3" fmla="val 27056"/>
              <a:gd name="adj4" fmla="val 77709"/>
            </a:avLst>
          </a:prstGeom>
          <a:gradFill rotWithShape="0">
            <a:gsLst>
              <a:gs pos="0">
                <a:srgbClr val="ffcc66">
                  <a:alpha val="97254"/>
                </a:srgbClr>
              </a:gs>
              <a:gs pos="100000">
                <a:srgbClr val="e8eae9"/>
              </a:gs>
            </a:gsLst>
            <a:lin ang="162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1295280" y="3747960"/>
            <a:ext cx="6477120" cy="21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ir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Arial"/>
              </a:rPr>
              <a:t>Niagara Moveme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rejected the gradualist approach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stating that trade skills 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an create workers, but cannot make men.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y also believed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African Americans should learn how to think for themselves</a:t>
            </a:r>
            <a:r>
              <a:rPr b="0" lang="en-US" sz="2000" spc="-1" strike="noStrike">
                <a:solidFill>
                  <a:srgbClr val="0066cc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rough the study of history, literature, and philosoph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143000" y="160020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1905, Du Bois and William Monroe Trotte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ere concerned that all across the South, black men could not vo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5029200" y="1676520"/>
            <a:ext cx="3505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fter a 1908 riot against African Americans in Springfield, Illinois, a number of whit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Progressives joined together with the Niagara Movement to form 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National Association for the Advancement of Colored People (NAACP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990720" y="5181480"/>
            <a:ext cx="32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ACP protested against lynching law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8" descr="2669196"/>
          <p:cNvPicPr/>
          <p:nvPr/>
        </p:nvPicPr>
        <p:blipFill>
          <a:blip r:embed="rId1"/>
          <a:stretch/>
        </p:blipFill>
        <p:spPr>
          <a:xfrm>
            <a:off x="457200" y="1828800"/>
            <a:ext cx="4343400" cy="33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5238720" y="2057400"/>
            <a:ext cx="327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 NAACP aimed to help African Americans become </a:t>
            </a:r>
            <a:r>
              <a:rPr b="0" lang="ja-JP" sz="2000" spc="-1" strike="noStrike">
                <a:solidFill>
                  <a:srgbClr val="0033cc"/>
                </a:solidFill>
                <a:latin typeface="Verdana"/>
                <a:ea typeface="Arial"/>
              </a:rPr>
              <a:t>“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physically free from peonage, mentally free from ignorance, politically free from disfranchisement, and socially free from insult.</a:t>
            </a:r>
            <a:r>
              <a:rPr b="0" lang="ja-JP" sz="2000" spc="-1" strike="noStrike">
                <a:solidFill>
                  <a:srgbClr val="0033cc"/>
                </a:solidFill>
                <a:latin typeface="Verdana"/>
                <a:ea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AutoShape 1035"/>
          <p:cNvSpPr/>
          <p:nvPr/>
        </p:nvSpPr>
        <p:spPr>
          <a:xfrm flipH="1" rot="5400000">
            <a:off x="1733400" y="685440"/>
            <a:ext cx="2438280" cy="4419360"/>
          </a:xfrm>
          <a:prstGeom prst="upArrowCallout">
            <a:avLst>
              <a:gd name="adj1" fmla="val 20835"/>
              <a:gd name="adj2" fmla="val 18875"/>
              <a:gd name="adj3" fmla="val 17621"/>
              <a:gd name="adj4" fmla="val 39313"/>
            </a:avLst>
          </a:prstGeom>
          <a:gradFill rotWithShape="0">
            <a:gsLst>
              <a:gs pos="0">
                <a:srgbClr val="cdcdff"/>
              </a:gs>
              <a:gs pos="100000">
                <a:srgbClr val="e8eae9"/>
              </a:gs>
            </a:gsLst>
            <a:lin ang="108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971640" y="2209680"/>
            <a:ext cx="3200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</a:t>
            </a:r>
            <a:r>
              <a:rPr b="0" lang="en-US" sz="2200" spc="-1" strike="noStrike">
                <a:solidFill>
                  <a:srgbClr val="0000ff"/>
                </a:solidFill>
                <a:latin typeface="Verdana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NAACP</a:t>
            </a:r>
            <a:r>
              <a:rPr b="0" lang="en-US" sz="2200" spc="-1" strike="noStrike">
                <a:solidFill>
                  <a:srgbClr val="0000ff"/>
                </a:solidFill>
                <a:latin typeface="Verdana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as founded to demand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voting and civil rights for African Americans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844560" y="2133720"/>
            <a:ext cx="7453440" cy="3657600"/>
          </a:xfrm>
          <a:prstGeom prst="rect">
            <a:avLst/>
          </a:prstGeom>
          <a:gradFill rotWithShape="0">
            <a:gsLst>
              <a:gs pos="0">
                <a:srgbClr val="e8eae9"/>
              </a:gs>
              <a:gs pos="100000">
                <a:srgbClr val="ffcc66">
                  <a:alpha val="66274"/>
                </a:srgbClr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828800" y="129528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NAACP attracted prominent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Progressives to their caus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14400" y="2209680"/>
          <a:ext cx="7315200" cy="3489480"/>
        </p:xfrm>
        <a:graphic>
          <a:graphicData uri="http://schemas.openxmlformats.org/drawingml/2006/table">
            <a:tbl>
              <a:tblPr/>
              <a:tblGrid>
                <a:gridCol w="3048120"/>
                <a:gridCol w="4267080"/>
              </a:tblGrid>
              <a:tr h="58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Supporters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Their tactics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340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228600"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Jane Add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228600"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Ray Stannard 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228600"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Florence Kel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228600"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Ida B. W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228600" indent="-228600">
                        <a:lnSpc>
                          <a:spcPct val="100000"/>
                        </a:lnSpc>
                        <a:spcAft>
                          <a:spcPts val="2001"/>
                        </a:spcAft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used newspapers to </a:t>
                      </a: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  <a:ea typeface="MS Pゴシック"/>
                        </a:rPr>
                        <a:t>publicize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  <a:ea typeface="MS Pゴシック"/>
                        </a:rPr>
                        <a:t>the horrors of race riots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  <a:ea typeface="MS Pゴシック"/>
                        </a:rPr>
                        <a:t>and lync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228600" indent="-228600">
                        <a:lnSpc>
                          <a:spcPct val="100000"/>
                        </a:lnSpc>
                        <a:spcAft>
                          <a:spcPts val="2001"/>
                        </a:spcAft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used the courts to </a:t>
                      </a: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  <a:ea typeface="MS Pゴシック"/>
                        </a:rPr>
                        <a:t>challenge unfair housing la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228600" indent="-228600">
                        <a:lnSpc>
                          <a:spcPct val="100000"/>
                        </a:lnSpc>
                        <a:spcAft>
                          <a:spcPts val="2001"/>
                        </a:spcAft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Verdana"/>
                          <a:ea typeface="MS Pゴシック"/>
                        </a:rPr>
                        <a:t>promoted professional career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MS Pゴシック"/>
                        </a:rPr>
                        <a:t> for African Americ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ounded Rectangle 4"/>
          <p:cNvSpPr/>
          <p:nvPr/>
        </p:nvSpPr>
        <p:spPr>
          <a:xfrm>
            <a:off x="1219320" y="1533600"/>
            <a:ext cx="6858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1508040" y="1609560"/>
            <a:ext cx="6096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In 1911, 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Urban Leagu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was formed to create a network of local clubs and churches to assist African Americans migrating to northern c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2286000" y="3594240"/>
            <a:ext cx="4572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hile the NAACP focused on political justice, the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 Urban League helped the poor find jobs, housing, clothing, and schools for their children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447920" y="2819520"/>
            <a:ext cx="6553080" cy="2666880"/>
          </a:xfrm>
          <a:prstGeom prst="rect">
            <a:avLst/>
          </a:prstGeom>
          <a:gradFill rotWithShape="0">
            <a:gsLst>
              <a:gs pos="0">
                <a:srgbClr val="c9c9ff"/>
              </a:gs>
              <a:gs pos="100000">
                <a:srgbClr val="e8eae9"/>
              </a:gs>
            </a:gsLst>
            <a:lin ang="10800000"/>
          </a:gradFill>
          <a:ln w="19080">
            <a:solidFill>
              <a:srgbClr val="666699"/>
            </a:solidFill>
            <a:miter/>
          </a:ln>
          <a:effectLst>
            <a:outerShdw dist="40186" dir="430364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1554120" y="1295280"/>
            <a:ext cx="6141960" cy="1099440"/>
          </a:xfrm>
          <a:prstGeom prst="rect">
            <a:avLst/>
          </a:prstGeom>
          <a:solidFill>
            <a:srgbClr val="e8eae9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Many ethnic groups formed self-help organizations to combat prejudice and protect their righ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905120" y="2913120"/>
          <a:ext cx="5867280" cy="2498760"/>
        </p:xfrm>
        <a:graphic>
          <a:graphicData uri="http://schemas.openxmlformats.org/drawingml/2006/table">
            <a:tbl>
              <a:tblPr/>
              <a:tblGrid>
                <a:gridCol w="2666880"/>
                <a:gridCol w="3200400"/>
              </a:tblGrid>
              <a:tr h="516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frican Americ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8600" indent="-228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A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e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8600" indent="-228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i B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76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xican Americ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8600" indent="-228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tual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ve Americ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8600" indent="-228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ciety of American Indi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>
                      <a:noFill/>
                    </a:lnR>
                    <a:lnT w="5760">
                      <a:solidFill>
                        <a:srgbClr val="6666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9"/>
          <p:cNvSpPr/>
          <p:nvPr/>
        </p:nvSpPr>
        <p:spPr>
          <a:xfrm rot="10800000">
            <a:off x="4724280" y="1447560"/>
            <a:ext cx="3657600" cy="3733560"/>
          </a:xfrm>
          <a:prstGeom prst="rect">
            <a:avLst/>
          </a:prstGeom>
          <a:gradFill rotWithShape="0">
            <a:gsLst>
              <a:gs pos="0">
                <a:srgbClr val="e8eae9"/>
              </a:gs>
              <a:gs pos="100000">
                <a:srgbClr val="ffcc66">
                  <a:alpha val="75294"/>
                </a:srgbClr>
              </a:gs>
            </a:gsLst>
            <a:lin ang="27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8"/>
          <p:cNvSpPr/>
          <p:nvPr/>
        </p:nvSpPr>
        <p:spPr>
          <a:xfrm rot="10800000">
            <a:off x="837720" y="1447560"/>
            <a:ext cx="3581640" cy="3733560"/>
          </a:xfrm>
          <a:prstGeom prst="rect">
            <a:avLst/>
          </a:prstGeom>
          <a:gradFill rotWithShape="0">
            <a:gsLst>
              <a:gs pos="0">
                <a:srgbClr val="00b0f0">
                  <a:alpha val="50196"/>
                </a:srgbClr>
              </a:gs>
              <a:gs pos="100000">
                <a:srgbClr val="e8eae9"/>
              </a:gs>
            </a:gsLst>
            <a:lin ang="27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914400" y="1828800"/>
            <a:ext cx="3352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184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2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Jewish families formed the B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nai B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rith to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provide religious education and suppor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4724280" y="1752480"/>
            <a:ext cx="3581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9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191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79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Arial"/>
              </a:rPr>
              <a:t> Anti-Defamation Leagu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was formed to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defend Jews and others against physical and verbal attacks, false statements, and to </a:t>
            </a:r>
            <a:r>
              <a:rPr b="0" lang="ja-JP" sz="2000" spc="-1" strike="noStrike">
                <a:solidFill>
                  <a:srgbClr val="0033cc"/>
                </a:solidFill>
                <a:latin typeface="Verdana"/>
                <a:ea typeface="Arial"/>
              </a:rPr>
              <a:t>“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secure justice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and fair treatment to 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all citizens alike.</a:t>
            </a:r>
            <a:r>
              <a:rPr b="0" lang="ja-JP" sz="2000" spc="-1" strike="noStrike">
                <a:solidFill>
                  <a:srgbClr val="0033cc"/>
                </a:solidFill>
                <a:latin typeface="Verdana"/>
                <a:ea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ounded Rectangle 8"/>
          <p:cNvSpPr/>
          <p:nvPr/>
        </p:nvSpPr>
        <p:spPr>
          <a:xfrm>
            <a:off x="1219320" y="1447920"/>
            <a:ext cx="6858000" cy="121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1554120" y="1482840"/>
            <a:ext cx="6019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Mexican Americans</a:t>
            </a:r>
            <a:r>
              <a:rPr b="0" lang="en-US" sz="2200" spc="-1" strike="noStrike">
                <a:solidFill>
                  <a:srgbClr val="0066cc"/>
                </a:solidFill>
                <a:latin typeface="Verdana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formed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mutualistas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groups that provided legal assistanc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nd insuranc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2209680" y="2981160"/>
            <a:ext cx="5181840" cy="24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 Partido Liberal Mexicano (PLM) in Arizona served Mexican Americans in the same way the Urban League helped African America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Many Latinos were subject to unfair labor contract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which the mutualistas helped to defea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4"/>
          <p:cNvSpPr/>
          <p:nvPr/>
        </p:nvSpPr>
        <p:spPr>
          <a:xfrm>
            <a:off x="1685880" y="45943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20"/>
          <p:cNvSpPr/>
          <p:nvPr/>
        </p:nvSpPr>
        <p:spPr>
          <a:xfrm>
            <a:off x="455760" y="1370160"/>
            <a:ext cx="685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Objectiv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135080" y="2133720"/>
            <a:ext cx="68738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1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lyze Progressives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ttitudes toward minority righ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11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11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plain why African Americans organiz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11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11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ine the strategies used by members of other minority groups to defend their righ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ounded Rectangle 4"/>
          <p:cNvSpPr/>
          <p:nvPr/>
        </p:nvSpPr>
        <p:spPr>
          <a:xfrm>
            <a:off x="914400" y="1143000"/>
            <a:ext cx="723888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9"/>
          <p:cNvSpPr/>
          <p:nvPr/>
        </p:nvSpPr>
        <p:spPr>
          <a:xfrm rot="10800000">
            <a:off x="4723920" y="2361960"/>
            <a:ext cx="3429000" cy="3733560"/>
          </a:xfrm>
          <a:prstGeom prst="rect">
            <a:avLst/>
          </a:prstGeom>
          <a:gradFill rotWithShape="0">
            <a:gsLst>
              <a:gs pos="0">
                <a:srgbClr val="e8eae9"/>
              </a:gs>
              <a:gs pos="100000">
                <a:srgbClr val="ffcc66">
                  <a:alpha val="75294"/>
                </a:srgbClr>
              </a:gs>
            </a:gsLst>
            <a:lin ang="27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8"/>
          <p:cNvSpPr/>
          <p:nvPr/>
        </p:nvSpPr>
        <p:spPr>
          <a:xfrm rot="10800000">
            <a:off x="990360" y="2361960"/>
            <a:ext cx="3429000" cy="3733560"/>
          </a:xfrm>
          <a:prstGeom prst="rect">
            <a:avLst/>
          </a:prstGeom>
          <a:gradFill rotWithShape="0">
            <a:gsLst>
              <a:gs pos="0">
                <a:srgbClr val="00b0f0">
                  <a:alpha val="50196"/>
                </a:srgbClr>
              </a:gs>
              <a:gs pos="100000">
                <a:srgbClr val="e8eae9"/>
              </a:gs>
            </a:gsLst>
            <a:lin ang="27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98"/>
          <p:cNvSpPr/>
          <p:nvPr/>
        </p:nvSpPr>
        <p:spPr>
          <a:xfrm>
            <a:off x="1219320" y="2514600"/>
            <a:ext cx="304776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In 1911, Carlos Montezuma helped form the Society of American Indians to protest federal polic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Nevertheless, by 1932, </a:t>
            </a:r>
            <a:r>
              <a:rPr b="0" lang="en-US" sz="1800" spc="-1" strike="noStrike">
                <a:solidFill>
                  <a:srgbClr val="0033cc"/>
                </a:solidFill>
                <a:latin typeface="Verdana"/>
                <a:ea typeface="Arial"/>
              </a:rPr>
              <a:t>two thirds of all tribal lands had been sold off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914400" y="126360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Despite organized protests, Native Americans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nd Japanese lost their ownership of lan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5029200" y="2500200"/>
            <a:ext cx="2895480" cy="34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In 1913, California restricted </a:t>
            </a:r>
            <a:r>
              <a:rPr b="0" lang="en-US" sz="1800" spc="-1" strike="noStrike">
                <a:solidFill>
                  <a:srgbClr val="0033cc"/>
                </a:solidFill>
                <a:latin typeface="Verdana"/>
                <a:ea typeface="Arial"/>
              </a:rPr>
              <a:t>land ownership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to American citizens only, which </a:t>
            </a:r>
            <a:r>
              <a:rPr b="0" lang="en-US" sz="1800" spc="-1" strike="noStrike">
                <a:solidFill>
                  <a:srgbClr val="0033cc"/>
                </a:solidFill>
                <a:latin typeface="Verdana"/>
                <a:ea typeface="Arial"/>
              </a:rPr>
              <a:t>excluded the Japanese, who were not allowed to become citize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In a 1922 decision, the Supreme Court allowed the limit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9"/>
          <p:cNvSpPr/>
          <p:nvPr/>
        </p:nvSpPr>
        <p:spPr>
          <a:xfrm>
            <a:off x="455760" y="1370160"/>
            <a:ext cx="785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Terms and Peop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990720" y="2057400"/>
            <a:ext cx="7619760" cy="37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Americanization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belief that assimilating immigrants into American society would make them more loyal citize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Booker T. Washington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favored a gradualist approach for blacks to earn rights through economic progress and employment in the    skilled trad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W.E.B. Du Boi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demanded immediate and full rights for blacks as guaranteed by the Constitu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9"/>
          <p:cNvSpPr/>
          <p:nvPr/>
        </p:nvSpPr>
        <p:spPr>
          <a:xfrm>
            <a:off x="457200" y="137016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Terms and Peopl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990720" y="2057400"/>
            <a:ext cx="761976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Niagara Movemen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group of African American thinkers founded in 1905 that pushed for immediate racial reform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National Association for the Advancement of Colored People (NAACP)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interracial organization founded in 1909 to abolish segregation and discrimination and achieve political rights for African America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Urban Leagu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organization to assist       working class African Americans with relief, jobs, clothing, and sch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3"/>
          <p:cNvSpPr/>
          <p:nvPr/>
        </p:nvSpPr>
        <p:spPr>
          <a:xfrm>
            <a:off x="990720" y="2057400"/>
            <a:ext cx="7619760" cy="33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Anti-Defamation Leagu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organization whose goal is to defend Jews and others from false statements and verbal or physical attack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mutualista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Mexican American groups that provided loans, legal assistance, and disability insurance for memb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Aft>
                <a:spcPts val="8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457200" y="137016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Terms and Peopl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2"/>
          <p:cNvSpPr/>
          <p:nvPr/>
        </p:nvSpPr>
        <p:spPr>
          <a:xfrm>
            <a:off x="1523880" y="2819520"/>
            <a:ext cx="6324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Prejudice and discrimination continued even during the Progressive Era. Minorities, including African Americans, Latinos, Catholics, Jews, and Native Americans, worked to help themselve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ir efforts paved the way for the era of civil rights several decades lat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1482840" y="167652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What steps did minorities take to combat social problems and discrimination?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7" descr="HSUS09_EQ_logoSmall"/>
          <p:cNvPicPr/>
          <p:nvPr/>
        </p:nvPicPr>
        <p:blipFill>
          <a:blip r:embed="rId1"/>
          <a:stretch/>
        </p:blipFill>
        <p:spPr>
          <a:xfrm>
            <a:off x="736560" y="1752480"/>
            <a:ext cx="558720" cy="59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5257800" y="3657600"/>
            <a:ext cx="2895480" cy="2057400"/>
          </a:xfrm>
          <a:prstGeom prst="rect">
            <a:avLst/>
          </a:prstGeom>
          <a:gradFill rotWithShape="0">
            <a:gsLst>
              <a:gs pos="0">
                <a:srgbClr val="ffcc66">
                  <a:alpha val="75294"/>
                </a:srgbClr>
              </a:gs>
              <a:gs pos="100000">
                <a:srgbClr val="e8eae9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AutoShape 5"/>
          <p:cNvSpPr/>
          <p:nvPr/>
        </p:nvSpPr>
        <p:spPr>
          <a:xfrm flipH="1" rot="5400000">
            <a:off x="2208960" y="2514240"/>
            <a:ext cx="2057400" cy="4343400"/>
          </a:xfrm>
          <a:prstGeom prst="upArrowCallout">
            <a:avLst>
              <a:gd name="adj1" fmla="val 19817"/>
              <a:gd name="adj2" fmla="val 20972"/>
              <a:gd name="adj3" fmla="val 30122"/>
              <a:gd name="adj4" fmla="val 36979"/>
            </a:avLst>
          </a:prstGeom>
          <a:gradFill rotWithShape="0">
            <a:gsLst>
              <a:gs pos="0">
                <a:srgbClr val="83d7e5"/>
              </a:gs>
              <a:gs pos="100000">
                <a:srgbClr val="e8eae9"/>
              </a:gs>
            </a:gsLst>
            <a:lin ang="108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AutoShape 6"/>
          <p:cNvSpPr/>
          <p:nvPr/>
        </p:nvSpPr>
        <p:spPr>
          <a:xfrm flipH="1" rot="10792800">
            <a:off x="1069200" y="1447920"/>
            <a:ext cx="5154840" cy="2286000"/>
          </a:xfrm>
          <a:prstGeom prst="upArrowCallout">
            <a:avLst>
              <a:gd name="adj1" fmla="val 25851"/>
              <a:gd name="adj2" fmla="val 23938"/>
              <a:gd name="adj3" fmla="val 24505"/>
              <a:gd name="adj4" fmla="val 62345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16194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5334120" y="4648320"/>
            <a:ext cx="2743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1295280" y="1523880"/>
            <a:ext cx="4724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Most Progressives were white, middle-class Protestants who held the racial and ethnic prejudices common in that er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1295280" y="3854520"/>
            <a:ext cx="327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y envisioned a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model America based on Protestant ethic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nd a white middle-class lifesty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5486400" y="3854520"/>
            <a:ext cx="2514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s a result, they were often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hostile to minority or immigrant cultures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6"/>
          <p:cNvSpPr/>
          <p:nvPr/>
        </p:nvSpPr>
        <p:spPr>
          <a:xfrm flipH="1" rot="10792800">
            <a:off x="762840" y="1050480"/>
            <a:ext cx="7391520" cy="1844640"/>
          </a:xfrm>
          <a:prstGeom prst="upArrowCallout">
            <a:avLst>
              <a:gd name="adj1" fmla="val 45751"/>
              <a:gd name="adj2" fmla="val 42371"/>
              <a:gd name="adj3" fmla="val 24505"/>
              <a:gd name="adj4" fmla="val 77709"/>
            </a:avLst>
          </a:prstGeom>
          <a:gradFill rotWithShape="0">
            <a:gsLst>
              <a:gs pos="0">
                <a:srgbClr val="cdcdff">
                  <a:alpha val="62352"/>
                </a:srgbClr>
              </a:gs>
              <a:gs pos="100000">
                <a:srgbClr val="e8eae9"/>
              </a:gs>
            </a:gsLst>
            <a:lin ang="16194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859040" y="1119240"/>
            <a:ext cx="541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Progressives believed </a:t>
            </a:r>
            <a:r>
              <a:rPr b="1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assimilation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would turn immigrants into loyal and moral citize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1143000" y="3048120"/>
            <a:ext cx="6781680" cy="29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 results were well-intentioned, but were often insensitive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efforts to change the immigra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While teaching English to immigrants, the Progressives also advised them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  <a:ea typeface="Arial"/>
              </a:rPr>
              <a:t>to replace their customs with middle-class practices and Protestant valu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ettlement houses and other civic groups played a prominent role in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Arial"/>
              </a:rPr>
              <a:t>Americanization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effor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29"/>
          <p:cNvSpPr/>
          <p:nvPr/>
        </p:nvSpPr>
        <p:spPr>
          <a:xfrm>
            <a:off x="5334120" y="2668680"/>
            <a:ext cx="2971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is prejudice against immigrant customs and culture gave strength to the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temperance moveme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266840" y="152388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Progressives saw many immigrant customs as moral failur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AutoShape 1035"/>
          <p:cNvSpPr/>
          <p:nvPr/>
        </p:nvSpPr>
        <p:spPr>
          <a:xfrm flipH="1" rot="5400000">
            <a:off x="1865880" y="1942920"/>
            <a:ext cx="2895840" cy="3886200"/>
          </a:xfrm>
          <a:prstGeom prst="upArrowCallout">
            <a:avLst>
              <a:gd name="adj1" fmla="val 26067"/>
              <a:gd name="adj2" fmla="val 18875"/>
              <a:gd name="adj3" fmla="val 17620"/>
              <a:gd name="adj4" fmla="val 45268"/>
            </a:avLst>
          </a:prstGeom>
          <a:gradFill rotWithShape="0">
            <a:gsLst>
              <a:gs pos="0">
                <a:srgbClr val="cdcdff"/>
              </a:gs>
              <a:gs pos="100000">
                <a:srgbClr val="e8eae9"/>
              </a:gs>
            </a:gsLst>
            <a:lin ang="10800000"/>
          </a:gradFill>
          <a:ln w="9360">
            <a:solidFill>
              <a:srgbClr val="ccccff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1523880" y="2957400"/>
            <a:ext cx="28195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Immigrants</a:t>
            </a:r>
            <a:r>
              <a:rPr b="0" lang="ja-JP" sz="2200" spc="-1" strike="noStrike">
                <a:solidFill>
                  <a:srgbClr val="0033cc"/>
                </a:solidFill>
                <a:latin typeface="Verdana"/>
                <a:ea typeface="Arial"/>
              </a:rPr>
              <a:t>’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 use of alcohol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such as serving wine with meals, alarmed some peopl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15:26:32Z</dcterms:created>
  <dc:creator>Sam Lewbel</dc:creator>
  <dc:description/>
  <dc:language>en-US</dc:language>
  <cp:lastModifiedBy>Mark Scacewater</cp:lastModifiedBy>
  <cp:lastPrinted>2008-05-21T18:42:16Z</cp:lastPrinted>
  <dcterms:modified xsi:type="dcterms:W3CDTF">2012-09-30T20:33:48Z</dcterms:modified>
  <cp:revision>1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